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E1E-3172-4A28-A898-7EE5DE7D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81C-F5B9-468C-8AEC-E9E405A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51F-CEAD-47FE-B330-FD09FF34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0C3-F70A-4B1B-AE11-62F104B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EAA-C192-43D3-AF1A-4752894B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7F7-08AF-4422-AEB9-E3FD34D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AE3A-9EB7-40AC-AA8D-B7CB96EE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0C2D-6A49-4C27-833D-E831DB4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623B-BE19-4610-8D9D-2DD1225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ECB-B4F5-48D8-9705-83966545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4B17-C170-4612-90C5-4AE0763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1EE-A977-4544-8812-F7D0D90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F838-6D04-494E-A59D-8654E27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6E9-2FE8-4C97-A773-2FFE4FA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860-1635-481C-9A12-F8FD070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A3C4-6292-41B1-8899-F65492D3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D4B4-DA75-468C-85D2-1CA1B5C5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4C2-3C2C-4B11-9524-4D27DFEE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23B-4FF8-4000-B1BB-E422459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F87-CB45-42E6-AE31-258AE128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CFD-A941-445D-90AC-059CD806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B94-84F4-4D38-AB5D-280A645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673-9E4B-4599-81FD-F7C9D74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D3-B0D3-47C8-8D1F-5043538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7FF-1DF5-403D-A674-FED435E63B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A82-D244-4827-A367-B7C350C9F9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hading in Art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sphere-demo[1]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ight, Shadow, Form and Textur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 and shadow helps us to see the textures and forms of ob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ists use shading to suggest form and tex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ist do not draw a huge sun in their drawing, painting, etc.. But rather they decide where the shadow and light will f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6-29-hanna1[1]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14926112_eebcd1d3d7[1]"/>
          <p:cNvPicPr/>
          <p:nvPr/>
        </p:nvPicPr>
        <p:blipFill>
          <a:blip r:embed="rId1"/>
          <a:stretch/>
        </p:blipFill>
        <p:spPr>
          <a:xfrm>
            <a:off x="274320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wang-artwork2_big[1]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horseheadshade[1]"/>
          <p:cNvPicPr/>
          <p:nvPr/>
        </p:nvPicPr>
        <p:blipFill>
          <a:blip r:embed="rId1"/>
          <a:stretch/>
        </p:blipFill>
        <p:spPr>
          <a:xfrm>
            <a:off x="3441600" y="2212920"/>
            <a:ext cx="2259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phillips_-_light_shall_prevail_the[1]"/>
          <p:cNvPicPr/>
          <p:nvPr/>
        </p:nvPicPr>
        <p:blipFill>
          <a:blip r:embed="rId1"/>
          <a:stretch/>
        </p:blipFill>
        <p:spPr>
          <a:xfrm>
            <a:off x="2681280" y="2163600"/>
            <a:ext cx="378000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4:39:32Z</dcterms:created>
  <dc:creator>CCRSB</dc:creator>
  <dc:description/>
  <dc:language>en-US</dc:language>
  <cp:lastModifiedBy>Mike</cp:lastModifiedBy>
  <dcterms:modified xsi:type="dcterms:W3CDTF">2012-06-29T00:56:42Z</dcterms:modified>
  <cp:revision>4</cp:revision>
  <dc:subject/>
  <dc:title>Slide 1</dc:title>
</cp:coreProperties>
</file>